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C4A3-EE49-4B9E-A9FD-4D2969E736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E1B5-E17B-4B4A-A967-2EBA74E7D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127A-D849-4EAA-A8DB-0A85A70CF5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257B-C2D2-418B-8D06-773DC5F4387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B233-1C06-489D-AE4E-8140E738D8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B653-5635-4B40-A5A7-EB9F4C51D8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D14C-63CE-4DD2-8687-ED7E92A5B48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015B9-3206-4104-BE39-B821CDE34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86C1-ADF6-466C-BB3F-107DCDC9B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672E08-F09E-4989-9394-324CD8258D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E0111-3216-42FD-990E-788EF60F38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7FE5A-EBDE-47F5-B353-53420D2F79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A4E64-78AB-46D4-830C-F8A7FAB07E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EF092E-35C8-4D23-B07D-3D6B7E18CF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3C1A3-6640-4000-9B24-AFF1045A0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5872B3-D1FC-4859-93C8-9BE16D054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30B1B1-DA3D-431D-AC23-9CE0B9967F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21E22-352E-43EC-B7FD-984E1CB62A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28361-1749-4E2D-B9BD-C8C3E975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3D397-640E-4F7C-A5BE-73FDC5AE8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57222-8638-4903-92F4-D62DA6B70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9B6F0-5D0D-4481-B04B-A904B205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E4C1-7100-4B96-A857-E9491D517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4C90-5E81-4643-B5BF-069E67AD0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8FF68-B760-463B-BC5A-5C0EED20A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ADA87-D227-4619-84E4-F72FB7A1E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68016-2BA4-498C-9C6B-02A8CF3FA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0C217-B807-411E-9CBF-DE137DF7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42998-0DB5-4036-8E0E-C82589F61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21FA5-6CD9-4580-816D-791A3CF09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4435B-F29B-46B4-B783-90AE3231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4DE5C-5420-4DDB-80C2-86CF0909B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578CE-C96D-4004-953D-EB66BF540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2DFE3B-E31D-4F22-A1E5-CAE86E3CF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D8BF4-AFC8-4DDA-B1CB-75FC93519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9E2E5-BFDD-4AE3-B824-F4690CC1B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DAE43-C91E-4ADA-A976-57258EDB9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BEE5C-FDFE-4218-A4AA-941B74585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D3F0-916A-4B53-B70D-7945398AB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D8C0B-65CA-4416-80EC-B3C997278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BB88E-CF3C-42C1-9127-4012F7D7F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2DC9E-A1F3-4EED-9D06-88CB11883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001F3-3D42-4195-9F5B-5B258F512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D5C4A-4A9F-44C0-8E61-070F04FF4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40510F-7C53-4BFB-9C4E-EE7FD9F23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759CA-D4F0-4E4F-88F7-1B6CA9425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07E631-DA61-4A59-A685-A1B8CFF0E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DC5C1-9BEE-4828-B581-9EB135EA5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9E779-D371-4E26-8BA1-473A9E8AB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3CFD-2EBB-4573-BD77-9BE1FAE3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FD6FB-03E6-4A50-9A7C-E7E0D739EC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51251-5A47-4DBF-A579-A18DDCFF1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05BD3-765C-4CD4-84F1-80641B595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18D32-A019-479C-9632-763166928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52CE8-9F7E-48B2-B423-29637AFAF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01F88-DE1A-4957-86B1-BCE92A19B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A5810-EDBD-4125-AB7B-98CB056E3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03B727-9DE7-491E-8383-742DD6893B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FD067D-3C74-4B38-B5F5-7B2CA8D663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E8098E-02CB-48AC-8B72-58BCBE9DF0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96E1-DB0A-4DB2-AB43-F618086C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90218-DF20-4C37-B805-D01BC27FC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3144B-80E6-49BC-8182-48F8BA2F1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0AD5B-AD55-460E-8416-B08651BDF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44500D-B473-43E4-82A2-C73044BC2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E1C45-CC92-4398-9A81-09C6E4914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08DC6-ACA7-4FB0-9F57-114243C4F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4E669-8685-4D86-8B53-508F05F5E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57E82-0290-4BD2-919A-CD8C89368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D633F6-E1BD-4A54-BCAF-B42B27128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104C0-BF6C-49B2-8061-CED6687BD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DFCF7-9AD0-4260-8782-D284481E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06EA04-DFCB-47B2-8613-AE574D6673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E83BD2-8632-4E1C-B82F-24C11E752C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E0A16-2C8B-4CB9-88BD-ECFFFCD50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C919E-AEE0-4983-924F-DD156D1E7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1919A-3203-405E-BF07-BB862806D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BED31-99B1-444C-8971-4D2B0102F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1ACC3-239A-4F62-BF28-3D37D6250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14043-3D1A-43A6-BBD8-47C28A8C5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0E76D-54F1-4FD8-ACEB-865CFAB26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06A72-F7E2-4875-967B-EBC0DFCCF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9791-8365-4A19-8823-52D3854F5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2A681-B9E7-4451-B5EF-7F659331B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FB52EB-6BAE-4D9D-9DCF-1F1C2E57E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A8335C-5581-4507-B2C0-BC9A8296BE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1E8A0-74E1-41C7-9EA2-620D3181F1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3D2B3-E439-42A5-BBC7-EE89EDB0D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E1EAD-00CB-43B6-A3DB-BDC750F97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B6560-9C9A-471D-BBBA-98F756749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586EB-6BA2-437C-AA67-4E98EBD53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D9A09-1140-4DBB-A53B-2168A3B6E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8BEBC-21C3-4A35-BB49-2D9C10968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1794-298F-4325-962C-5CD05CEA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F4EE1-9CDE-4AF4-9C61-7D95A8365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06C56-6BC6-4EE0-8F18-43FBCBCD4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AC85A-7955-4150-ACE6-FE5FF333D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07A83E-B94F-4798-A938-900D5865B2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B0AC1-5CA2-4B61-85E7-1A23E0E784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E9FB33-5649-4EDE-9461-D4319B9EA6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7F8F1B-25A8-4555-A183-12BEFA0481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7679EC-6FF3-4F23-82AA-9FFEFAB485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C36FC9-8ADE-45B7-8A5B-2ACA476EB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12D2F1-AD8D-4257-B33F-67E3C925B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F40A1-0CCC-4AC4-AC7F-7E18915E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54D17-0B3A-4D26-BBB0-D90718300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3BE9D-B983-4DF2-BCD6-CBA6898B8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803F4-D950-4396-B7BB-4C5B5A98E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F4A4D-88AE-4F43-8EE1-81E46B8C4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A98BB0-DE65-47C5-93F6-E3196A2A3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3DE162-7F92-4219-A840-7DC770AFFA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624F84-7A3A-4823-BBC6-F6D59D0F86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811B18-62CD-40B0-ADB0-48BC20C9E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54876-F956-4FED-9199-3DF0A3DEEC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4D887-4924-4452-91BD-6316414145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A2E0-083C-48D4-BDDA-D4053961C03C}"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E6C4-31A5-44CE-AB1C-0932C7431F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AA5B-9216-4E6E-A131-4364B9E61892}"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CC2B-2E72-42E0-A3B0-61BB4AF367C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7B05-AB3C-4C88-939A-30A2B7719A9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D3D9-40E0-4CC3-B8C5-82AB5A0680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A2A9-BF46-4C9B-87F8-B42DAA0FF21A}"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90CE-CD05-495E-B08B-347A989BE6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5782-FE64-4F7D-91A0-F5E4AF782531}"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E043-B449-4A9D-801C-6A92DAB53B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B3AF-C410-4EB5-97AC-4B2F2E106905}"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C439-7DD3-43B7-A596-88FF162743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9C35-90FB-4AFE-AACD-738DFEDD0A1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67C0-DC55-4B11-A093-B8DB6AC689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714B-BA74-4C20-9909-C47EE18A36BD}"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DD6D-188E-4FFC-843E-FDDE5145FE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2693-2DEE-461A-B42F-2F827B209A6B}"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FA98-1DD5-4C91-AE68-DFEDCD5508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1C8CB9C7-E32B-4722-BAED-F91317C264A5}" type="slidenum">
              <a:t>1</a:t>
            </a:fld>
          </a:p>
        </p:txBody>
      </p:sp>
      <p:sp>
        <p:nvSpPr>
          <p:cNvPr id="5" name="PlaceHolder 4"/>
          <p:cNvSpPr>
            <a:spLocks noGrp="1"/>
          </p:cNvSpPr>
          <p:nvPr>
            <p:ph type="dt" idx="4"/>
          </p:nvPr>
        </p:nvSpPr>
        <p:spPr/>
        <p:txBody>
          <a:bodyPr/>
          <a:p>
            <a:fld id="{F2828A9B-EE09-435E-9719-7FFBFBF2598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4697-34F4-4AB7-8305-8942B12154B4}"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DFD1-685C-4A2C-8D76-E6E5C6841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DC094B0-4481-440C-A17D-15A219715372}" type="slidenum">
              <a:t>10</a:t>
            </a:fld>
          </a:p>
        </p:txBody>
      </p:sp>
      <p:sp>
        <p:nvSpPr>
          <p:cNvPr id="5" name="PlaceHolder 4"/>
          <p:cNvSpPr>
            <a:spLocks noGrp="1"/>
          </p:cNvSpPr>
          <p:nvPr>
            <p:ph type="dt" idx="1"/>
          </p:nvPr>
        </p:nvSpPr>
        <p:spPr/>
        <p:txBody>
          <a:bodyPr/>
          <a:p>
            <a:fld id="{30C1674F-6303-41C8-8C8C-D95BC827AEC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375B6BA8-7895-4150-87B8-E87BFAD59F09}" type="slidenum">
              <a:t>11</a:t>
            </a:fld>
          </a:p>
        </p:txBody>
      </p:sp>
      <p:sp>
        <p:nvSpPr>
          <p:cNvPr id="3" name="PlaceHolder 2"/>
          <p:cNvSpPr>
            <a:spLocks noGrp="1"/>
          </p:cNvSpPr>
          <p:nvPr>
            <p:ph type="dt" idx="1"/>
          </p:nvPr>
        </p:nvSpPr>
        <p:spPr/>
        <p:txBody>
          <a:bodyPr/>
          <a:p>
            <a:fld id="{346906AD-5A92-44BF-8747-F24BB373DF0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589F68-2F0B-4231-BF44-A03BA4E80283}" type="slidenum">
              <a:t>12</a:t>
            </a:fld>
          </a:p>
        </p:txBody>
      </p:sp>
      <p:sp>
        <p:nvSpPr>
          <p:cNvPr id="4" name="PlaceHolder 3"/>
          <p:cNvSpPr>
            <a:spLocks noGrp="1"/>
          </p:cNvSpPr>
          <p:nvPr>
            <p:ph type="dt" idx="1"/>
          </p:nvPr>
        </p:nvSpPr>
        <p:spPr/>
        <p:txBody>
          <a:bodyPr/>
          <a:p>
            <a:fld id="{D974BF6A-F7F3-4F42-888A-7A602242885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20354A20-A9CD-47C8-A885-69E97142B0C1}" type="slidenum">
              <a:t>13</a:t>
            </a:fld>
          </a:p>
        </p:txBody>
      </p:sp>
      <p:sp>
        <p:nvSpPr>
          <p:cNvPr id="4" name="PlaceHolder 3"/>
          <p:cNvSpPr>
            <a:spLocks noGrp="1"/>
          </p:cNvSpPr>
          <p:nvPr>
            <p:ph type="dt" idx="1"/>
          </p:nvPr>
        </p:nvSpPr>
        <p:spPr/>
        <p:txBody>
          <a:bodyPr/>
          <a:p>
            <a:fld id="{E0C9739B-EDE5-411D-A95E-F352955E8DC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898DC180-65D7-45EA-87D0-0E6504CC3C55}" type="slidenum">
              <a:t>14</a:t>
            </a:fld>
          </a:p>
        </p:txBody>
      </p:sp>
      <p:sp>
        <p:nvSpPr>
          <p:cNvPr id="4" name="PlaceHolder 3"/>
          <p:cNvSpPr>
            <a:spLocks noGrp="1"/>
          </p:cNvSpPr>
          <p:nvPr>
            <p:ph type="dt" idx="1"/>
          </p:nvPr>
        </p:nvSpPr>
        <p:spPr/>
        <p:txBody>
          <a:bodyPr/>
          <a:p>
            <a:fld id="{DA673CD6-649B-440F-A747-5EDC80DCE9E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7CC93691-3B50-4CFB-8815-4396039E82DA}" type="slidenum">
              <a:t>15</a:t>
            </a:fld>
          </a:p>
        </p:txBody>
      </p:sp>
      <p:sp>
        <p:nvSpPr>
          <p:cNvPr id="3" name="PlaceHolder 2"/>
          <p:cNvSpPr>
            <a:spLocks noGrp="1"/>
          </p:cNvSpPr>
          <p:nvPr>
            <p:ph type="dt" idx="1"/>
          </p:nvPr>
        </p:nvSpPr>
        <p:spPr/>
        <p:txBody>
          <a:bodyPr/>
          <a:p>
            <a:fld id="{B473B3E4-FD97-4ADB-A582-599E76D0FBD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5EED20-0B6E-458B-8296-C5ACCD246A0F}" type="slidenum">
              <a:t>16</a:t>
            </a:fld>
          </a:p>
        </p:txBody>
      </p:sp>
      <p:sp>
        <p:nvSpPr>
          <p:cNvPr id="4" name="PlaceHolder 3"/>
          <p:cNvSpPr>
            <a:spLocks noGrp="1"/>
          </p:cNvSpPr>
          <p:nvPr>
            <p:ph type="dt" idx="1"/>
          </p:nvPr>
        </p:nvSpPr>
        <p:spPr/>
        <p:txBody>
          <a:bodyPr/>
          <a:p>
            <a:fld id="{C42359A4-F799-4B7B-96DA-6905EFDBD4E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DDE12029-258F-47DB-B15F-9D692A0F2A07}" type="slidenum">
              <a:t>17</a:t>
            </a:fld>
          </a:p>
        </p:txBody>
      </p:sp>
      <p:sp>
        <p:nvSpPr>
          <p:cNvPr id="4" name="PlaceHolder 3"/>
          <p:cNvSpPr>
            <a:spLocks noGrp="1"/>
          </p:cNvSpPr>
          <p:nvPr>
            <p:ph type="dt" idx="4"/>
          </p:nvPr>
        </p:nvSpPr>
        <p:spPr/>
        <p:txBody>
          <a:bodyPr/>
          <a:p>
            <a:fld id="{513CD023-557B-4D68-BB7E-C8C848C75B5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84EC2F-EC8F-4687-B08E-2FA985BE0A94}" type="slidenum">
              <a:t>18</a:t>
            </a:fld>
          </a:p>
        </p:txBody>
      </p:sp>
      <p:sp>
        <p:nvSpPr>
          <p:cNvPr id="5" name="PlaceHolder 4"/>
          <p:cNvSpPr>
            <a:spLocks noGrp="1"/>
          </p:cNvSpPr>
          <p:nvPr>
            <p:ph type="dt" idx="1"/>
          </p:nvPr>
        </p:nvSpPr>
        <p:spPr/>
        <p:txBody>
          <a:bodyPr/>
          <a:p>
            <a:fld id="{88B1FB2E-E4F3-4667-8555-59FE6C8EB91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171A62-C18C-47BD-A9F9-B372E2CA91E2}" type="slidenum">
              <a:t>19</a:t>
            </a:fld>
          </a:p>
        </p:txBody>
      </p:sp>
      <p:sp>
        <p:nvSpPr>
          <p:cNvPr id="3" name="PlaceHolder 2"/>
          <p:cNvSpPr>
            <a:spLocks noGrp="1"/>
          </p:cNvSpPr>
          <p:nvPr>
            <p:ph type="dt" idx="1"/>
          </p:nvPr>
        </p:nvSpPr>
        <p:spPr/>
        <p:txBody>
          <a:bodyPr/>
          <a:p>
            <a:fld id="{FCF3DF55-4605-4B32-BCDC-9AC7E5110B0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AA0593DC-C85D-429F-9BE9-205FE70650FE}" type="slidenum">
              <a:t>2</a:t>
            </a:fld>
          </a:p>
        </p:txBody>
      </p:sp>
      <p:sp>
        <p:nvSpPr>
          <p:cNvPr id="4" name="PlaceHolder 3"/>
          <p:cNvSpPr>
            <a:spLocks noGrp="1"/>
          </p:cNvSpPr>
          <p:nvPr>
            <p:ph type="dt" idx="1"/>
          </p:nvPr>
        </p:nvSpPr>
        <p:spPr/>
        <p:txBody>
          <a:bodyPr/>
          <a:p>
            <a:fld id="{543BC72D-A259-43D0-BC97-87B63978C47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294774-87B7-4414-8C7C-B9101B600416}" type="slidenum">
              <a:t>20</a:t>
            </a:fld>
          </a:p>
        </p:txBody>
      </p:sp>
      <p:sp>
        <p:nvSpPr>
          <p:cNvPr id="3" name="PlaceHolder 2"/>
          <p:cNvSpPr>
            <a:spLocks noGrp="1"/>
          </p:cNvSpPr>
          <p:nvPr>
            <p:ph type="dt" idx="1"/>
          </p:nvPr>
        </p:nvSpPr>
        <p:spPr/>
        <p:txBody>
          <a:bodyPr/>
          <a:p>
            <a:fld id="{1084005B-3CF4-483D-B9DC-9CF4BFF7B63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D11746E-22F7-4C2E-A5D0-F9715E7611F6}" type="slidenum">
              <a:t>21</a:t>
            </a:fld>
          </a:p>
        </p:txBody>
      </p:sp>
      <p:sp>
        <p:nvSpPr>
          <p:cNvPr id="4" name="PlaceHolder 3"/>
          <p:cNvSpPr>
            <a:spLocks noGrp="1"/>
          </p:cNvSpPr>
          <p:nvPr>
            <p:ph type="dt" idx="1"/>
          </p:nvPr>
        </p:nvSpPr>
        <p:spPr/>
        <p:txBody>
          <a:bodyPr/>
          <a:p>
            <a:fld id="{5AC76C98-3332-4ECF-80D7-20DE5AB378D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EBB08F-E19F-4183-BCD0-C46B0B42DB4A}" type="slidenum">
              <a:t>22</a:t>
            </a:fld>
          </a:p>
        </p:txBody>
      </p:sp>
      <p:sp>
        <p:nvSpPr>
          <p:cNvPr id="3" name="PlaceHolder 2"/>
          <p:cNvSpPr>
            <a:spLocks noGrp="1"/>
          </p:cNvSpPr>
          <p:nvPr>
            <p:ph type="dt" idx="1"/>
          </p:nvPr>
        </p:nvSpPr>
        <p:spPr/>
        <p:txBody>
          <a:bodyPr/>
          <a:p>
            <a:fld id="{CD03E66B-71D1-4EDF-8022-FB5E84D5F8A6}"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36AAF3D-3FAD-48A0-8329-27EFA1BCAF7F}" type="slidenum">
              <a:t>23</a:t>
            </a:fld>
          </a:p>
        </p:txBody>
      </p:sp>
      <p:sp>
        <p:nvSpPr>
          <p:cNvPr id="3" name="PlaceHolder 2"/>
          <p:cNvSpPr>
            <a:spLocks noGrp="1"/>
          </p:cNvSpPr>
          <p:nvPr>
            <p:ph type="dt" idx="1"/>
          </p:nvPr>
        </p:nvSpPr>
        <p:spPr/>
        <p:txBody>
          <a:bodyPr/>
          <a:p>
            <a:fld id="{6D718A44-C4E3-4A96-B9A3-DE9F29E05C0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79F92C-8B17-47BF-8608-178CA871EFF3}" type="slidenum">
              <a:t>24</a:t>
            </a:fld>
          </a:p>
        </p:txBody>
      </p:sp>
      <p:sp>
        <p:nvSpPr>
          <p:cNvPr id="3" name="PlaceHolder 2"/>
          <p:cNvSpPr>
            <a:spLocks noGrp="1"/>
          </p:cNvSpPr>
          <p:nvPr>
            <p:ph type="dt" idx="1"/>
          </p:nvPr>
        </p:nvSpPr>
        <p:spPr/>
        <p:txBody>
          <a:bodyPr/>
          <a:p>
            <a:fld id="{7E2BA7B3-E8C8-4AEF-A46D-FFA1509C9857}"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0291BB-9DEB-4426-9AEC-52E8DD9126A4}" type="slidenum">
              <a:t>25</a:t>
            </a:fld>
          </a:p>
        </p:txBody>
      </p:sp>
      <p:sp>
        <p:nvSpPr>
          <p:cNvPr id="3" name="PlaceHolder 2"/>
          <p:cNvSpPr>
            <a:spLocks noGrp="1"/>
          </p:cNvSpPr>
          <p:nvPr>
            <p:ph type="dt" idx="1"/>
          </p:nvPr>
        </p:nvSpPr>
        <p:spPr/>
        <p:txBody>
          <a:bodyPr/>
          <a:p>
            <a:fld id="{8527DD2C-CCC9-47C5-A1FB-A68AC766C07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6BC3A3-FB35-4C1D-BA94-7CE8238C0D90}" type="slidenum">
              <a:t>26</a:t>
            </a:fld>
          </a:p>
        </p:txBody>
      </p:sp>
      <p:sp>
        <p:nvSpPr>
          <p:cNvPr id="3" name="PlaceHolder 2"/>
          <p:cNvSpPr>
            <a:spLocks noGrp="1"/>
          </p:cNvSpPr>
          <p:nvPr>
            <p:ph type="dt" idx="1"/>
          </p:nvPr>
        </p:nvSpPr>
        <p:spPr/>
        <p:txBody>
          <a:bodyPr/>
          <a:p>
            <a:fld id="{CE0CDD18-93AC-46A3-A601-C5EB857E189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E51586A-5B90-4A98-BD6C-6D4C6503C0CD}" type="slidenum">
              <a:t>27</a:t>
            </a:fld>
          </a:p>
        </p:txBody>
      </p:sp>
      <p:sp>
        <p:nvSpPr>
          <p:cNvPr id="3" name="PlaceHolder 2"/>
          <p:cNvSpPr>
            <a:spLocks noGrp="1"/>
          </p:cNvSpPr>
          <p:nvPr>
            <p:ph type="dt" idx="1"/>
          </p:nvPr>
        </p:nvSpPr>
        <p:spPr/>
        <p:txBody>
          <a:bodyPr/>
          <a:p>
            <a:fld id="{FA1ADBF9-F1E8-48F3-84E1-376442D1DC18}"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667A-9BC2-481C-B1F5-D332A1BD734A}" type="datetime">
              <a:rPr b="0" lang="en-US" sz="1200" spc="-1" strike="noStrike">
                <a:solidFill>
                  <a:srgbClr val="000000"/>
                </a:solidFill>
                <a:latin typeface="Verdana"/>
              </a:rPr>
              <a:t>07/31/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7F42AE7-48E0-4435-9CB0-27FE796D57AB}" type="slidenum">
              <a:t>28</a:t>
            </a:fld>
          </a:p>
        </p:txBody>
      </p:sp>
      <p:sp>
        <p:nvSpPr>
          <p:cNvPr id="4" name="PlaceHolder 3"/>
          <p:cNvSpPr>
            <a:spLocks noGrp="1"/>
          </p:cNvSpPr>
          <p:nvPr>
            <p:ph type="dt" idx="4"/>
          </p:nvPr>
        </p:nvSpPr>
        <p:spPr/>
        <p:txBody>
          <a:bodyPr/>
          <a:p>
            <a:fld id="{ABFA03FB-4161-411D-B38E-D8572A398E99}"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5EE229F-40BA-4CB6-BE4C-0733928BA7E8}" type="slidenum">
              <a:t>29</a:t>
            </a:fld>
          </a:p>
        </p:txBody>
      </p:sp>
      <p:sp>
        <p:nvSpPr>
          <p:cNvPr id="5" name="PlaceHolder 4"/>
          <p:cNvSpPr>
            <a:spLocks noGrp="1"/>
          </p:cNvSpPr>
          <p:nvPr>
            <p:ph type="dt" idx="4"/>
          </p:nvPr>
        </p:nvSpPr>
        <p:spPr/>
        <p:txBody>
          <a:bodyPr/>
          <a:p>
            <a:fld id="{D7250805-0EBF-4AB7-86FC-8A6F469EC71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C32AB9CC-FC88-427F-AF5A-E1828319ED7B}" type="slidenum">
              <a:t>3</a:t>
            </a:fld>
          </a:p>
        </p:txBody>
      </p:sp>
      <p:sp>
        <p:nvSpPr>
          <p:cNvPr id="3" name="PlaceHolder 2"/>
          <p:cNvSpPr>
            <a:spLocks noGrp="1"/>
          </p:cNvSpPr>
          <p:nvPr>
            <p:ph type="dt" idx="1"/>
          </p:nvPr>
        </p:nvSpPr>
        <p:spPr/>
        <p:txBody>
          <a:bodyPr/>
          <a:p>
            <a:fld id="{75AE0AAF-CDB8-4EFE-88DA-490706E4F40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5D9E97E7-BA86-46E4-8329-0F9D83E2E5AF}" type="slidenum">
              <a:t>30</a:t>
            </a:fld>
          </a:p>
        </p:txBody>
      </p:sp>
      <p:sp>
        <p:nvSpPr>
          <p:cNvPr id="5" name="PlaceHolder 4"/>
          <p:cNvSpPr>
            <a:spLocks noGrp="1"/>
          </p:cNvSpPr>
          <p:nvPr>
            <p:ph type="dt" idx="4"/>
          </p:nvPr>
        </p:nvSpPr>
        <p:spPr/>
        <p:txBody>
          <a:bodyPr/>
          <a:p>
            <a:fld id="{FD98AF11-A921-4C2E-A2EB-6FE09084C5F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7EBB371-B2A2-4BDC-BAF5-2D84CEB27552}" type="slidenum">
              <a:t>31</a:t>
            </a:fld>
          </a:p>
        </p:txBody>
      </p:sp>
      <p:sp>
        <p:nvSpPr>
          <p:cNvPr id="5" name="PlaceHolder 4"/>
          <p:cNvSpPr>
            <a:spLocks noGrp="1"/>
          </p:cNvSpPr>
          <p:nvPr>
            <p:ph type="dt" idx="4"/>
          </p:nvPr>
        </p:nvSpPr>
        <p:spPr/>
        <p:txBody>
          <a:bodyPr/>
          <a:p>
            <a:fld id="{ADA1626C-CF50-4DDE-BB37-6F4DF7373C17}"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4723C45D-C1CB-41EC-909E-EAB5857BFCB7}" type="slidenum">
              <a:t>32</a:t>
            </a:fld>
          </a:p>
        </p:txBody>
      </p:sp>
      <p:sp>
        <p:nvSpPr>
          <p:cNvPr id="5" name="PlaceHolder 4"/>
          <p:cNvSpPr>
            <a:spLocks noGrp="1"/>
          </p:cNvSpPr>
          <p:nvPr>
            <p:ph type="dt" idx="4"/>
          </p:nvPr>
        </p:nvSpPr>
        <p:spPr/>
        <p:txBody>
          <a:bodyPr/>
          <a:p>
            <a:fld id="{299AE708-4404-4FBA-9B8A-99EC2E2A742A}"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CD06C3DD-9645-4A24-897B-14948CC630A2}" type="slidenum">
              <a:t>33</a:t>
            </a:fld>
          </a:p>
        </p:txBody>
      </p:sp>
      <p:sp>
        <p:nvSpPr>
          <p:cNvPr id="5" name="PlaceHolder 4"/>
          <p:cNvSpPr>
            <a:spLocks noGrp="1"/>
          </p:cNvSpPr>
          <p:nvPr>
            <p:ph type="dt" idx="4"/>
          </p:nvPr>
        </p:nvSpPr>
        <p:spPr/>
        <p:txBody>
          <a:bodyPr/>
          <a:p>
            <a:fld id="{2B9499E3-50D4-47D4-AF0B-6D3B3A5E74E3}"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2968263-DBC4-477C-835F-C09872C8158A}" type="slidenum">
              <a:t>34</a:t>
            </a:fld>
          </a:p>
        </p:txBody>
      </p:sp>
      <p:sp>
        <p:nvSpPr>
          <p:cNvPr id="3" name="PlaceHolder 2"/>
          <p:cNvSpPr>
            <a:spLocks noGrp="1"/>
          </p:cNvSpPr>
          <p:nvPr>
            <p:ph type="dt" idx="4"/>
          </p:nvPr>
        </p:nvSpPr>
        <p:spPr/>
        <p:txBody>
          <a:bodyPr/>
          <a:p>
            <a:fld id="{340EBD0E-7636-4185-9E6C-76CA75C7E0AA}"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A91A8C16-62C6-4B88-890D-E2094BF6BA50}" type="slidenum">
              <a:t>35</a:t>
            </a:fld>
          </a:p>
        </p:txBody>
      </p:sp>
      <p:sp>
        <p:nvSpPr>
          <p:cNvPr id="5" name="PlaceHolder 4"/>
          <p:cNvSpPr>
            <a:spLocks noGrp="1"/>
          </p:cNvSpPr>
          <p:nvPr>
            <p:ph type="dt" idx="4"/>
          </p:nvPr>
        </p:nvSpPr>
        <p:spPr/>
        <p:txBody>
          <a:bodyPr/>
          <a:p>
            <a:fld id="{8CD331FF-E636-49F4-8C67-740F5311921F}"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AF367318-0445-4C87-8F9D-1A3609E5D17F}" type="slidenum">
              <a:t>36</a:t>
            </a:fld>
          </a:p>
        </p:txBody>
      </p:sp>
      <p:sp>
        <p:nvSpPr>
          <p:cNvPr id="4" name="PlaceHolder 3"/>
          <p:cNvSpPr>
            <a:spLocks noGrp="1"/>
          </p:cNvSpPr>
          <p:nvPr>
            <p:ph type="dt" idx="4"/>
          </p:nvPr>
        </p:nvSpPr>
        <p:spPr/>
        <p:txBody>
          <a:bodyPr/>
          <a:p>
            <a:fld id="{F3026DAB-7E7A-4DF9-A679-AA5668CBCAFF}"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8584DC59-E665-427B-88B2-52355D0678A4}" type="slidenum">
              <a:t>37</a:t>
            </a:fld>
          </a:p>
        </p:txBody>
      </p:sp>
      <p:sp>
        <p:nvSpPr>
          <p:cNvPr id="5" name="PlaceHolder 4"/>
          <p:cNvSpPr>
            <a:spLocks noGrp="1"/>
          </p:cNvSpPr>
          <p:nvPr>
            <p:ph type="dt" idx="4"/>
          </p:nvPr>
        </p:nvSpPr>
        <p:spPr/>
        <p:txBody>
          <a:bodyPr/>
          <a:p>
            <a:fld id="{10A8C9A3-DCE4-4619-A4BA-70DBE306C720}"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1A49236E-6231-4F16-B843-DF16E3C219B1}" type="slidenum">
              <a:t>38</a:t>
            </a:fld>
          </a:p>
        </p:txBody>
      </p:sp>
      <p:sp>
        <p:nvSpPr>
          <p:cNvPr id="4" name="PlaceHolder 3"/>
          <p:cNvSpPr>
            <a:spLocks noGrp="1"/>
          </p:cNvSpPr>
          <p:nvPr>
            <p:ph type="dt" idx="4"/>
          </p:nvPr>
        </p:nvSpPr>
        <p:spPr/>
        <p:txBody>
          <a:bodyPr/>
          <a:p>
            <a:fld id="{DFAC98E8-AEA3-4C6F-AA4A-1990919D6593}"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7495AB5-A1EA-43A4-A259-9939F7281336}" type="slidenum">
              <a:t>39</a:t>
            </a:fld>
          </a:p>
        </p:txBody>
      </p:sp>
      <p:sp>
        <p:nvSpPr>
          <p:cNvPr id="4" name="PlaceHolder 3"/>
          <p:cNvSpPr>
            <a:spLocks noGrp="1"/>
          </p:cNvSpPr>
          <p:nvPr>
            <p:ph type="dt" idx="4"/>
          </p:nvPr>
        </p:nvSpPr>
        <p:spPr/>
        <p:txBody>
          <a:bodyPr/>
          <a:p>
            <a:fld id="{8CFE5C7C-B20F-4D3A-A24D-70C5AA44E14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7E63821C-FAEC-4858-9BC9-61B062C0DE98}" type="slidenum">
              <a:t>4</a:t>
            </a:fld>
          </a:p>
        </p:txBody>
      </p:sp>
      <p:sp>
        <p:nvSpPr>
          <p:cNvPr id="5" name="PlaceHolder 4"/>
          <p:cNvSpPr>
            <a:spLocks noGrp="1"/>
          </p:cNvSpPr>
          <p:nvPr>
            <p:ph type="dt" idx="1"/>
          </p:nvPr>
        </p:nvSpPr>
        <p:spPr/>
        <p:txBody>
          <a:bodyPr/>
          <a:p>
            <a:fld id="{7E2BC59A-F7DE-4B22-99D6-B6F3A685CE3B}"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E6FFBCBC-6E9F-4D22-AA68-487B5FB5B80A}" type="slidenum">
              <a:t>40</a:t>
            </a:fld>
          </a:p>
        </p:txBody>
      </p:sp>
      <p:sp>
        <p:nvSpPr>
          <p:cNvPr id="4" name="PlaceHolder 3"/>
          <p:cNvSpPr>
            <a:spLocks noGrp="1"/>
          </p:cNvSpPr>
          <p:nvPr>
            <p:ph type="dt" idx="4"/>
          </p:nvPr>
        </p:nvSpPr>
        <p:spPr/>
        <p:txBody>
          <a:bodyPr/>
          <a:p>
            <a:fld id="{0BA0697F-E3FE-4FDB-9DD2-57F2C7A8EE2D}"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93ECC5E1-1DEA-4253-9947-75359906223E}" type="slidenum">
              <a:t>41</a:t>
            </a:fld>
          </a:p>
        </p:txBody>
      </p:sp>
      <p:sp>
        <p:nvSpPr>
          <p:cNvPr id="3" name="PlaceHolder 2"/>
          <p:cNvSpPr>
            <a:spLocks noGrp="1"/>
          </p:cNvSpPr>
          <p:nvPr>
            <p:ph type="dt" idx="4"/>
          </p:nvPr>
        </p:nvSpPr>
        <p:spPr/>
        <p:txBody>
          <a:bodyPr/>
          <a:p>
            <a:fld id="{D99EC48E-D359-4918-BA0E-170492C14AC8}"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60818DEB-423F-487F-97B2-9728E0427BFE}" type="slidenum">
              <a:t>42</a:t>
            </a:fld>
          </a:p>
        </p:txBody>
      </p:sp>
      <p:sp>
        <p:nvSpPr>
          <p:cNvPr id="5" name="PlaceHolder 4"/>
          <p:cNvSpPr>
            <a:spLocks noGrp="1"/>
          </p:cNvSpPr>
          <p:nvPr>
            <p:ph type="dt" idx="4"/>
          </p:nvPr>
        </p:nvSpPr>
        <p:spPr/>
        <p:txBody>
          <a:bodyPr/>
          <a:p>
            <a:fld id="{66D87B29-9014-4B50-A7EF-F60DF6E77DAB}"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620E79BE-1522-46C9-8780-EA10C6FA7B5E}" type="slidenum">
              <a:t>43</a:t>
            </a:fld>
          </a:p>
        </p:txBody>
      </p:sp>
      <p:sp>
        <p:nvSpPr>
          <p:cNvPr id="5" name="PlaceHolder 4"/>
          <p:cNvSpPr>
            <a:spLocks noGrp="1"/>
          </p:cNvSpPr>
          <p:nvPr>
            <p:ph type="dt" idx="4"/>
          </p:nvPr>
        </p:nvSpPr>
        <p:spPr/>
        <p:txBody>
          <a:bodyPr/>
          <a:p>
            <a:fld id="{0457F782-082F-4792-858F-64DCE246DF2E}"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2C67589-030E-40F2-96E9-29BD86D4D310}" type="slidenum">
              <a:t>44</a:t>
            </a:fld>
          </a:p>
        </p:txBody>
      </p:sp>
      <p:sp>
        <p:nvSpPr>
          <p:cNvPr id="5" name="PlaceHolder 4"/>
          <p:cNvSpPr>
            <a:spLocks noGrp="1"/>
          </p:cNvSpPr>
          <p:nvPr>
            <p:ph type="dt" idx="4"/>
          </p:nvPr>
        </p:nvSpPr>
        <p:spPr/>
        <p:txBody>
          <a:bodyPr/>
          <a:p>
            <a:fld id="{1A4FD5DF-70CB-4D87-A887-55DD96AAF99E}"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2711E1D4-1065-42E4-A5A8-710C39F7D31B}" type="slidenum">
              <a:t>45</a:t>
            </a:fld>
          </a:p>
        </p:txBody>
      </p:sp>
      <p:sp>
        <p:nvSpPr>
          <p:cNvPr id="4" name="PlaceHolder 3"/>
          <p:cNvSpPr>
            <a:spLocks noGrp="1"/>
          </p:cNvSpPr>
          <p:nvPr>
            <p:ph type="dt" idx="4"/>
          </p:nvPr>
        </p:nvSpPr>
        <p:spPr/>
        <p:txBody>
          <a:bodyPr/>
          <a:p>
            <a:fld id="{76473778-5204-4768-B580-A0A4843754E3}"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F92DF667-E8EB-427C-965F-855E174E589F}" type="slidenum">
              <a:t>46</a:t>
            </a:fld>
          </a:p>
        </p:txBody>
      </p:sp>
      <p:sp>
        <p:nvSpPr>
          <p:cNvPr id="5" name="PlaceHolder 4"/>
          <p:cNvSpPr>
            <a:spLocks noGrp="1"/>
          </p:cNvSpPr>
          <p:nvPr>
            <p:ph type="dt" idx="4"/>
          </p:nvPr>
        </p:nvSpPr>
        <p:spPr/>
        <p:txBody>
          <a:bodyPr/>
          <a:p>
            <a:fld id="{3EF420FB-55EC-4527-B122-37D813A78CEE}"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A8EE-1C58-4F4C-AEBB-8111EDCF25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CCA2-442D-4DCA-AAFA-0201C2009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05447912-F623-4B01-9F5E-EFCB86D1EB4A}" type="slidenum">
              <a:t>47</a:t>
            </a:fld>
          </a:p>
        </p:txBody>
      </p:sp>
      <p:sp>
        <p:nvSpPr>
          <p:cNvPr id="4" name="PlaceHolder 3"/>
          <p:cNvSpPr>
            <a:spLocks noGrp="1"/>
          </p:cNvSpPr>
          <p:nvPr>
            <p:ph type="dt" idx="4"/>
          </p:nvPr>
        </p:nvSpPr>
        <p:spPr/>
        <p:txBody>
          <a:bodyPr/>
          <a:p>
            <a:fld id="{6174B4DF-23CE-4A11-A87A-B2AF83AA2B85}"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B423599F-6C2E-43FD-8848-01C20034563E}" type="slidenum">
              <a:t>48</a:t>
            </a:fld>
          </a:p>
        </p:txBody>
      </p:sp>
      <p:sp>
        <p:nvSpPr>
          <p:cNvPr id="5" name="PlaceHolder 4"/>
          <p:cNvSpPr>
            <a:spLocks noGrp="1"/>
          </p:cNvSpPr>
          <p:nvPr>
            <p:ph type="dt" idx="4"/>
          </p:nvPr>
        </p:nvSpPr>
        <p:spPr/>
        <p:txBody>
          <a:bodyPr/>
          <a:p>
            <a:fld id="{BB1ED2B0-E19E-46CA-A541-E0D5DCF3702B}"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43FC5168-1999-48D8-BD85-267970A61C33}" type="slidenum">
              <a:t>49</a:t>
            </a:fld>
          </a:p>
        </p:txBody>
      </p:sp>
      <p:sp>
        <p:nvSpPr>
          <p:cNvPr id="5" name="PlaceHolder 4"/>
          <p:cNvSpPr>
            <a:spLocks noGrp="1"/>
          </p:cNvSpPr>
          <p:nvPr>
            <p:ph type="dt" idx="4"/>
          </p:nvPr>
        </p:nvSpPr>
        <p:spPr/>
        <p:txBody>
          <a:bodyPr/>
          <a:p>
            <a:fld id="{34D8A659-602D-4A3F-8DC1-81C0AFEED96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6831FD-6AA5-4484-98EB-E980F3E87085}" type="slidenum">
              <a:t>5</a:t>
            </a:fld>
          </a:p>
        </p:txBody>
      </p:sp>
      <p:sp>
        <p:nvSpPr>
          <p:cNvPr id="5" name="PlaceHolder 4"/>
          <p:cNvSpPr>
            <a:spLocks noGrp="1"/>
          </p:cNvSpPr>
          <p:nvPr>
            <p:ph type="dt" idx="1"/>
          </p:nvPr>
        </p:nvSpPr>
        <p:spPr/>
        <p:txBody>
          <a:bodyPr/>
          <a:p>
            <a:fld id="{1AE9E35D-0DA0-42D1-9954-78EA62537C6C}"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3C1F1952-9319-406E-9F14-11BC4C2C360B}" type="slidenum">
              <a:t>50</a:t>
            </a:fld>
          </a:p>
        </p:txBody>
      </p:sp>
      <p:sp>
        <p:nvSpPr>
          <p:cNvPr id="5" name="PlaceHolder 4"/>
          <p:cNvSpPr>
            <a:spLocks noGrp="1"/>
          </p:cNvSpPr>
          <p:nvPr>
            <p:ph type="dt" idx="4"/>
          </p:nvPr>
        </p:nvSpPr>
        <p:spPr/>
        <p:txBody>
          <a:bodyPr/>
          <a:p>
            <a:fld id="{4334FFA1-14A2-4928-8ED2-F3C718F76D54}"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F359A4B-2833-4261-A7BC-49C8D23C4AE5}" type="slidenum">
              <a:t>51</a:t>
            </a:fld>
          </a:p>
        </p:txBody>
      </p:sp>
      <p:sp>
        <p:nvSpPr>
          <p:cNvPr id="5" name="PlaceHolder 4"/>
          <p:cNvSpPr>
            <a:spLocks noGrp="1"/>
          </p:cNvSpPr>
          <p:nvPr>
            <p:ph type="dt" idx="4"/>
          </p:nvPr>
        </p:nvSpPr>
        <p:spPr/>
        <p:txBody>
          <a:bodyPr/>
          <a:p>
            <a:fld id="{AB79264E-D5AE-47B2-A33C-F7047F4DD0AF}"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8AC3C203-1CC6-4D98-A040-A9D725BBE854}" type="slidenum">
              <a:t>52</a:t>
            </a:fld>
          </a:p>
        </p:txBody>
      </p:sp>
      <p:sp>
        <p:nvSpPr>
          <p:cNvPr id="5" name="PlaceHolder 4"/>
          <p:cNvSpPr>
            <a:spLocks noGrp="1"/>
          </p:cNvSpPr>
          <p:nvPr>
            <p:ph type="dt" idx="4"/>
          </p:nvPr>
        </p:nvSpPr>
        <p:spPr/>
        <p:txBody>
          <a:bodyPr/>
          <a:p>
            <a:fld id="{DA88D74B-80DD-410C-BE4B-885F07C14737}"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5366F6EF-E906-4DD5-AA36-B51AE874674D}" type="slidenum">
              <a:t>53</a:t>
            </a:fld>
          </a:p>
        </p:txBody>
      </p:sp>
      <p:sp>
        <p:nvSpPr>
          <p:cNvPr id="5" name="PlaceHolder 4"/>
          <p:cNvSpPr>
            <a:spLocks noGrp="1"/>
          </p:cNvSpPr>
          <p:nvPr>
            <p:ph type="dt" idx="4"/>
          </p:nvPr>
        </p:nvSpPr>
        <p:spPr/>
        <p:txBody>
          <a:bodyPr/>
          <a:p>
            <a:fld id="{830E0108-460F-4E35-B539-336FB44841AB}"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E8BB8ECF-FF02-4F2E-89A6-819822C129C3}" type="slidenum">
              <a:t>54</a:t>
            </a:fld>
          </a:p>
        </p:txBody>
      </p:sp>
      <p:sp>
        <p:nvSpPr>
          <p:cNvPr id="5" name="PlaceHolder 4"/>
          <p:cNvSpPr>
            <a:spLocks noGrp="1"/>
          </p:cNvSpPr>
          <p:nvPr>
            <p:ph type="dt" idx="4"/>
          </p:nvPr>
        </p:nvSpPr>
        <p:spPr/>
        <p:txBody>
          <a:bodyPr/>
          <a:p>
            <a:fld id="{D96DA161-B30B-4DC1-85C2-FC97C133EC73}"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42600F6B-3CFC-48C9-BB9A-FF67156F5CB9}" type="slidenum">
              <a:t>55</a:t>
            </a:fld>
          </a:p>
        </p:txBody>
      </p:sp>
      <p:sp>
        <p:nvSpPr>
          <p:cNvPr id="5" name="PlaceHolder 4"/>
          <p:cNvSpPr>
            <a:spLocks noGrp="1"/>
          </p:cNvSpPr>
          <p:nvPr>
            <p:ph type="dt" idx="4"/>
          </p:nvPr>
        </p:nvSpPr>
        <p:spPr/>
        <p:txBody>
          <a:bodyPr/>
          <a:p>
            <a:fld id="{6CCAA96B-B578-4C35-A0CC-554F1A18FD2A}"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7F298A64-941D-457F-BC70-40F9403DE368}" type="slidenum">
              <a:t>56</a:t>
            </a:fld>
          </a:p>
        </p:txBody>
      </p:sp>
      <p:sp>
        <p:nvSpPr>
          <p:cNvPr id="5" name="PlaceHolder 4"/>
          <p:cNvSpPr>
            <a:spLocks noGrp="1"/>
          </p:cNvSpPr>
          <p:nvPr>
            <p:ph type="dt" idx="4"/>
          </p:nvPr>
        </p:nvSpPr>
        <p:spPr/>
        <p:txBody>
          <a:bodyPr/>
          <a:p>
            <a:fld id="{2A896A1B-A919-44D0-B87A-807E715D6E42}"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BEF7FEDB-9E53-4CB6-A925-60F686995D8C}" type="slidenum">
              <a:t>57</a:t>
            </a:fld>
          </a:p>
        </p:txBody>
      </p:sp>
      <p:sp>
        <p:nvSpPr>
          <p:cNvPr id="5" name="PlaceHolder 4"/>
          <p:cNvSpPr>
            <a:spLocks noGrp="1"/>
          </p:cNvSpPr>
          <p:nvPr>
            <p:ph type="dt" idx="4"/>
          </p:nvPr>
        </p:nvSpPr>
        <p:spPr/>
        <p:txBody>
          <a:bodyPr/>
          <a:p>
            <a:fld id="{6187D336-F2F2-4045-91D3-878EBE391322}"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ECFC290-54DD-4C2F-AA01-4E1CD26B7EC4}" type="slidenum">
              <a:t>58</a:t>
            </a:fld>
          </a:p>
        </p:txBody>
      </p:sp>
      <p:sp>
        <p:nvSpPr>
          <p:cNvPr id="3" name="PlaceHolder 2"/>
          <p:cNvSpPr>
            <a:spLocks noGrp="1"/>
          </p:cNvSpPr>
          <p:nvPr>
            <p:ph type="dt" idx="4"/>
          </p:nvPr>
        </p:nvSpPr>
        <p:spPr/>
        <p:txBody>
          <a:bodyPr/>
          <a:p>
            <a:fld id="{FA06E133-41D8-4270-BA08-D90B858FC8FA}"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0F897C97-BDFA-4535-BC2B-B2CBFEB3AC59}" type="slidenum">
              <a:t>59</a:t>
            </a:fld>
          </a:p>
        </p:txBody>
      </p:sp>
      <p:sp>
        <p:nvSpPr>
          <p:cNvPr id="5" name="PlaceHolder 4"/>
          <p:cNvSpPr>
            <a:spLocks noGrp="1"/>
          </p:cNvSpPr>
          <p:nvPr>
            <p:ph type="dt" idx="4"/>
          </p:nvPr>
        </p:nvSpPr>
        <p:spPr/>
        <p:txBody>
          <a:bodyPr/>
          <a:p>
            <a:fld id="{217DC166-F42C-47A3-A012-3184C940E86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ED03F06-79C2-46A6-912B-93E2F53CD606}" type="slidenum">
              <a:t>6</a:t>
            </a:fld>
          </a:p>
        </p:txBody>
      </p:sp>
      <p:sp>
        <p:nvSpPr>
          <p:cNvPr id="3" name="PlaceHolder 2"/>
          <p:cNvSpPr>
            <a:spLocks noGrp="1"/>
          </p:cNvSpPr>
          <p:nvPr>
            <p:ph type="dt" idx="1"/>
          </p:nvPr>
        </p:nvSpPr>
        <p:spPr/>
        <p:txBody>
          <a:bodyPr/>
          <a:p>
            <a:fld id="{6AD0CEEC-4189-4D78-B7AC-66FF2697845C}"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81DD519A-D6FC-4CFD-88CC-A287585423E0}" type="slidenum">
              <a:t>60</a:t>
            </a:fld>
          </a:p>
        </p:txBody>
      </p:sp>
      <p:sp>
        <p:nvSpPr>
          <p:cNvPr id="4" name="PlaceHolder 3"/>
          <p:cNvSpPr>
            <a:spLocks noGrp="1"/>
          </p:cNvSpPr>
          <p:nvPr>
            <p:ph type="dt" idx="4"/>
          </p:nvPr>
        </p:nvSpPr>
        <p:spPr/>
        <p:txBody>
          <a:bodyPr/>
          <a:p>
            <a:fld id="{B43DFF1D-7C06-4F7E-92C3-FE569C06690B}"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2F34026A-ACBB-4A88-8D61-DA23C189EB8A}" type="slidenum">
              <a:t>61</a:t>
            </a:fld>
          </a:p>
        </p:txBody>
      </p:sp>
      <p:sp>
        <p:nvSpPr>
          <p:cNvPr id="4" name="PlaceHolder 3"/>
          <p:cNvSpPr>
            <a:spLocks noGrp="1"/>
          </p:cNvSpPr>
          <p:nvPr>
            <p:ph type="dt" idx="1"/>
          </p:nvPr>
        </p:nvSpPr>
        <p:spPr/>
        <p:txBody>
          <a:bodyPr/>
          <a:p>
            <a:fld id="{B11FDEF8-4946-4B25-AE88-1C40290AF1C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8C0F781-E3AE-4574-A54B-3CFAA51FB06C}" type="slidenum">
              <a:t>7</a:t>
            </a:fld>
          </a:p>
        </p:txBody>
      </p:sp>
      <p:sp>
        <p:nvSpPr>
          <p:cNvPr id="4" name="PlaceHolder 3"/>
          <p:cNvSpPr>
            <a:spLocks noGrp="1"/>
          </p:cNvSpPr>
          <p:nvPr>
            <p:ph type="dt" idx="1"/>
          </p:nvPr>
        </p:nvSpPr>
        <p:spPr/>
        <p:txBody>
          <a:bodyPr/>
          <a:p>
            <a:fld id="{0A9EB9C2-0696-42D7-8D9A-0C48F81F666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EC0A73E-153D-49A6-8324-C89195624197}" type="slidenum">
              <a:t>8</a:t>
            </a:fld>
          </a:p>
        </p:txBody>
      </p:sp>
      <p:sp>
        <p:nvSpPr>
          <p:cNvPr id="4" name="PlaceHolder 3"/>
          <p:cNvSpPr>
            <a:spLocks noGrp="1"/>
          </p:cNvSpPr>
          <p:nvPr>
            <p:ph type="dt" idx="1"/>
          </p:nvPr>
        </p:nvSpPr>
        <p:spPr/>
        <p:txBody>
          <a:bodyPr/>
          <a:p>
            <a:fld id="{9FF15D8B-B6BC-4F19-BFC2-F024CED9172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CC0816-5449-4DF8-8FC6-27CDD2D21F19}" type="slidenum">
              <a:t>9</a:t>
            </a:fld>
          </a:p>
        </p:txBody>
      </p:sp>
      <p:sp>
        <p:nvSpPr>
          <p:cNvPr id="5" name="PlaceHolder 4"/>
          <p:cNvSpPr>
            <a:spLocks noGrp="1"/>
          </p:cNvSpPr>
          <p:nvPr>
            <p:ph type="dt" idx="1"/>
          </p:nvPr>
        </p:nvSpPr>
        <p:spPr/>
        <p:txBody>
          <a:bodyPr/>
          <a:p>
            <a:fld id="{5E737BCD-EAE1-499F-9705-A6A911F1B27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